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5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11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319B-F7A4-4CD0-A783-2D67B273A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FC13-304B-4E21-BE86-E9FFF5DA1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CF07-AF59-4AE8-8AFC-A3C3D2D93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BFCA-9A05-4B6D-ABBE-10D43290A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D9B4-05B3-4F8D-8716-8908C6536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81B5-59AF-48F8-AE68-30C09558C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0DAD-9E7C-49EA-81AF-5BBD01326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F698-D828-411C-AB1D-4B708500C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AD66-AEE3-4847-ABCD-3EA5E68E6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3E64-E37D-41D4-8736-A9CE3292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80AC-08EC-4D5D-A65B-87D038DC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7F9B-09F8-4D9C-A8A7-75340BCB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A059-849D-4BE0-BDAF-4207D2DB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AE90-7988-4C22-9E90-D0FE3052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61FD-D4A8-4102-AD13-CE48D15B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7973-4BBE-4B40-9745-9598C575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678D-6A55-4897-B75F-9C367524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C647-7FBA-4279-BACA-794535E4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F547-6F90-4415-B621-81F41E63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12FF-EBC2-4E69-8148-1CAD38B4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8DEE-7C9D-4A56-B339-85818B84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1E6D-C97F-453B-9630-8032523FA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lmooreketresources.wikispaces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ket.org/artstoolkit/" TargetMode="External"/><Relationship Id="rId3" Type="http://schemas.openxmlformats.org/officeDocument/2006/relationships/hyperlink" Target="http://www.ket.org/artstoolki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www.ket.org/lincoln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et.org/trips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www.ket.org/trip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2"/>
          <p:cNvSpPr/>
          <p:nvPr/>
        </p:nvSpPr>
        <p:spPr>
          <a:xfrm>
            <a:off x="228600" y="492444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957"/>
                </a:solidFill>
                <a:latin typeface="Arial"/>
              </a:rPr>
              <a:t>Social Studies Resources at Your Fingertips Through KET!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-228600" y="-1676520"/>
            <a:ext cx="8610480" cy="6477120"/>
          </a:xfrm>
          <a:custGeom>
            <a:avLst/>
            <a:gdLst>
              <a:gd name="textAreaLeft" fmla="*/ 419760 w 8610480"/>
              <a:gd name="textAreaRight" fmla="*/ 8190720 w 8610480"/>
              <a:gd name="textAreaTop" fmla="*/ 419760 h 6477120"/>
              <a:gd name="textAreaBottom" fmla="*/ 6057360 h 6477120"/>
            </a:gdLst>
            <a:ahLst/>
            <a:rect l="textAreaLeft" t="textAreaTop" r="textAreaRight" b="textAreaBottom"/>
            <a:pathLst>
              <a:path w="28714" h="21600">
                <a:moveTo>
                  <a:pt x="0" y="0"/>
                </a:moveTo>
                <a:lnTo>
                  <a:pt x="28714" y="0"/>
                </a:lnTo>
                <a:lnTo>
                  <a:pt x="28714" y="21600"/>
                </a:lnTo>
                <a:lnTo>
                  <a:pt x="0" y="21600"/>
                </a:lnTo>
                <a:close/>
              </a:path>
              <a:path fill="lightenLess" w="28714" h="21600">
                <a:moveTo>
                  <a:pt x="0" y="0"/>
                </a:moveTo>
                <a:lnTo>
                  <a:pt x="28714" y="0"/>
                </a:lnTo>
                <a:lnTo>
                  <a:pt x="27314" y="1400"/>
                </a:lnTo>
                <a:lnTo>
                  <a:pt x="1400" y="1400"/>
                </a:lnTo>
                <a:close/>
              </a:path>
              <a:path fill="darken" w="28714" h="21600">
                <a:moveTo>
                  <a:pt x="28714" y="0"/>
                </a:moveTo>
                <a:lnTo>
                  <a:pt x="28714" y="21600"/>
                </a:lnTo>
                <a:lnTo>
                  <a:pt x="27314" y="20200"/>
                </a:lnTo>
                <a:lnTo>
                  <a:pt x="27314" y="1400"/>
                </a:lnTo>
                <a:close/>
              </a:path>
              <a:path fill="darkenLess" w="28714" h="21600">
                <a:moveTo>
                  <a:pt x="28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4" y="20200"/>
                </a:lnTo>
                <a:close/>
              </a:path>
              <a:path fill="lighten" w="28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534520" cy="1778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165240" y="2133720"/>
            <a:ext cx="8673840" cy="25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cale City: The Road to Proportional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76320" y="838080"/>
            <a:ext cx="8915400" cy="533412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457200" y="62485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WW.SCALECITY.OR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2" name="Action Button: Custom 7"/>
          <p:cNvSpPr/>
          <p:nvPr/>
        </p:nvSpPr>
        <p:spPr>
          <a:xfrm>
            <a:off x="1905120" y="6248520"/>
            <a:ext cx="5181480" cy="609480"/>
          </a:xfrm>
          <a:custGeom>
            <a:avLst/>
            <a:gdLst>
              <a:gd name="textAreaLeft" fmla="*/ 39240 w 5181480"/>
              <a:gd name="textAreaRight" fmla="*/ 5142240 w 5181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83536" h="21600">
                <a:moveTo>
                  <a:pt x="0" y="0"/>
                </a:moveTo>
                <a:lnTo>
                  <a:pt x="183536" y="0"/>
                </a:lnTo>
                <a:lnTo>
                  <a:pt x="183536" y="21600"/>
                </a:lnTo>
                <a:lnTo>
                  <a:pt x="0" y="21600"/>
                </a:lnTo>
                <a:close/>
              </a:path>
              <a:path fill="lightenLess" w="183536" h="21600">
                <a:moveTo>
                  <a:pt x="0" y="0"/>
                </a:moveTo>
                <a:lnTo>
                  <a:pt x="183536" y="0"/>
                </a:lnTo>
                <a:lnTo>
                  <a:pt x="182136" y="1400"/>
                </a:lnTo>
                <a:lnTo>
                  <a:pt x="1400" y="1400"/>
                </a:lnTo>
                <a:close/>
              </a:path>
              <a:path fill="darken" w="183536" h="21600">
                <a:moveTo>
                  <a:pt x="183536" y="0"/>
                </a:moveTo>
                <a:lnTo>
                  <a:pt x="183536" y="21600"/>
                </a:lnTo>
                <a:lnTo>
                  <a:pt x="182136" y="20200"/>
                </a:lnTo>
                <a:lnTo>
                  <a:pt x="182136" y="1400"/>
                </a:lnTo>
                <a:close/>
              </a:path>
              <a:path fill="darkenLess" w="183536" h="21600">
                <a:moveTo>
                  <a:pt x="183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2136" y="20200"/>
                </a:lnTo>
                <a:close/>
              </a:path>
              <a:path fill="lighten" w="183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Encyclomedia-1"/>
          <p:cNvPicPr/>
          <p:nvPr/>
        </p:nvPicPr>
        <p:blipFill>
          <a:blip r:embed="rId1"/>
          <a:stretch/>
        </p:blipFill>
        <p:spPr>
          <a:xfrm>
            <a:off x="380880" y="228600"/>
            <a:ext cx="7696440" cy="1501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228600" y="2743200"/>
            <a:ext cx="883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Over 5000 videos- 50,000 video segments 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155 of KET’s original programs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20,000 digital images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400 songs, 3000 sound effects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40 historic speeches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Discovery Atlas Interactive Map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obust  Professional Development area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04920" y="1828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eatures of the servic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228600" y="2590920"/>
            <a:ext cx="8381880" cy="75960"/>
          </a:xfrm>
          <a:prstGeom prst="rect">
            <a:avLst/>
          </a:prstGeom>
          <a:solidFill>
            <a:srgbClr val="ffdd1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New Features Introduced in 2009-10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21798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hanced interface with web tool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anded content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er resolutio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granular search tax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-level standards 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hanced Interactive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room set-up and enhanced student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Encyclomedia-1"/>
          <p:cNvPicPr/>
          <p:nvPr/>
        </p:nvPicPr>
        <p:blipFill>
          <a:blip r:embed="rId1"/>
          <a:stretch/>
        </p:blipFill>
        <p:spPr>
          <a:xfrm>
            <a:off x="762120" y="76320"/>
            <a:ext cx="7467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304920" y="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ts Explore this Exciting Service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6095880" y="3352680"/>
            <a:ext cx="2057400" cy="990720"/>
          </a:xfrm>
          <a:custGeom>
            <a:avLst/>
            <a:gdLst>
              <a:gd name="textAreaLeft" fmla="*/ 64080 w 2057400"/>
              <a:gd name="textAreaRight" fmla="*/ 1993320 w 2057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4848" h="21600">
                <a:moveTo>
                  <a:pt x="0" y="0"/>
                </a:moveTo>
                <a:lnTo>
                  <a:pt x="44848" y="0"/>
                </a:lnTo>
                <a:lnTo>
                  <a:pt x="44848" y="21600"/>
                </a:lnTo>
                <a:lnTo>
                  <a:pt x="0" y="21600"/>
                </a:lnTo>
                <a:close/>
              </a:path>
              <a:path fill="lightenLess" w="44848" h="21600">
                <a:moveTo>
                  <a:pt x="0" y="0"/>
                </a:moveTo>
                <a:lnTo>
                  <a:pt x="44848" y="0"/>
                </a:lnTo>
                <a:lnTo>
                  <a:pt x="43448" y="1400"/>
                </a:lnTo>
                <a:lnTo>
                  <a:pt x="1400" y="1400"/>
                </a:lnTo>
                <a:close/>
              </a:path>
              <a:path fill="darken" w="44848" h="21600">
                <a:moveTo>
                  <a:pt x="44848" y="0"/>
                </a:moveTo>
                <a:lnTo>
                  <a:pt x="44848" y="21600"/>
                </a:lnTo>
                <a:lnTo>
                  <a:pt x="43448" y="20200"/>
                </a:lnTo>
                <a:lnTo>
                  <a:pt x="43448" y="1400"/>
                </a:lnTo>
                <a:close/>
              </a:path>
              <a:path fill="darkenLess" w="44848" h="21600">
                <a:moveTo>
                  <a:pt x="44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8" y="20200"/>
                </a:lnTo>
                <a:close/>
              </a:path>
              <a:path fill="lighten" w="44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6019920" y="2743200"/>
            <a:ext cx="457200" cy="76212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2743200" y="2449440"/>
            <a:ext cx="327672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Here for link to page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5" name="Action Button: Forward or Next 6"/>
          <p:cNvSpPr/>
          <p:nvPr/>
        </p:nvSpPr>
        <p:spPr>
          <a:xfrm>
            <a:off x="8229600" y="5943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Kentucky’s National Parks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76320" y="914400"/>
            <a:ext cx="4954320" cy="2743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4114800" y="3886200"/>
            <a:ext cx="4923000" cy="28954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228600" y="409716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y Preserve Parks?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hare your story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mily Fun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atch video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257800" y="99072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ate park video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learning objects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lassroom material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mages and video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533520" y="48765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may use this PowerPoint in whole or in part but please cite KET as the sourc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410440" cy="38019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1981080" y="914400"/>
            <a:ext cx="5486400" cy="3809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7391520" y="838080"/>
            <a:ext cx="0" cy="3886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1981080" y="4648320"/>
            <a:ext cx="556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1905120" y="4724280"/>
            <a:ext cx="556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Your Presenters today ar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609480" y="1066680"/>
            <a:ext cx="7391520" cy="88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57"/>
                </a:solidFill>
                <a:latin typeface="Arial"/>
              </a:rPr>
              <a:t>Teresa Day</a:t>
            </a:r>
            <a:br>
              <a:rPr sz="2400"/>
            </a:br>
            <a:r>
              <a:rPr b="1" lang="en-US" sz="2400" spc="-1" strike="noStrike">
                <a:solidFill>
                  <a:srgbClr val="ffe957"/>
                </a:solidFill>
                <a:latin typeface="Arial"/>
              </a:rPr>
              <a:t>KET Arts and Special Projects Manager </a:t>
            </a:r>
            <a:br>
              <a:rPr sz="2400"/>
            </a:br>
            <a:r>
              <a:rPr b="1" lang="en-US" sz="2400" spc="-1" strike="noStrike">
                <a:solidFill>
                  <a:srgbClr val="ffe957"/>
                </a:solidFill>
                <a:latin typeface="Arial"/>
              </a:rPr>
              <a:t>Voice Mail: (800)432-0951 ext. 7294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57"/>
                </a:solidFill>
                <a:latin typeface="Arial"/>
              </a:rPr>
              <a:t>E-Mail: tday@ket.org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57"/>
                </a:solidFill>
                <a:latin typeface="Arial"/>
              </a:rPr>
              <a:t>Larry Moore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57"/>
                </a:solidFill>
                <a:latin typeface="Arial"/>
              </a:rPr>
              <a:t>KET Education Consultant,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57"/>
                </a:solidFill>
                <a:latin typeface="Arial"/>
              </a:rPr>
              <a:t>North Central Region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57"/>
                </a:solidFill>
                <a:latin typeface="Arial"/>
              </a:rPr>
              <a:t>Regional Office # (502) 875-9002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57"/>
                </a:solidFill>
                <a:latin typeface="Arial"/>
              </a:rPr>
              <a:t>Voice Mail: (800) 432-0951, ext. 7264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957"/>
                </a:solidFill>
                <a:latin typeface="Arial"/>
              </a:rPr>
              <a:t>E-Mail: lmoore@ket.org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54" name="Picture 4" descr="MCPE01923_0000[1]"/>
          <p:cNvPicPr/>
          <p:nvPr/>
        </p:nvPicPr>
        <p:blipFill>
          <a:blip r:embed="rId1"/>
          <a:stretch/>
        </p:blipFill>
        <p:spPr>
          <a:xfrm>
            <a:off x="6629400" y="4952880"/>
            <a:ext cx="2276640" cy="14479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685800" y="5715000"/>
            <a:ext cx="533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ry’s Wiki Address: http://lmooreketresources.wikispaces.com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6" name="Action Button: Custom 6">
            <a:hlinkClick r:id="rId2"/>
          </p:cNvPr>
          <p:cNvSpPr/>
          <p:nvPr/>
        </p:nvSpPr>
        <p:spPr>
          <a:xfrm>
            <a:off x="685800" y="5715000"/>
            <a:ext cx="5791320" cy="762120"/>
          </a:xfrm>
          <a:custGeom>
            <a:avLst/>
            <a:gdLst>
              <a:gd name="textAreaLeft" fmla="*/ 49320 w 5791320"/>
              <a:gd name="textAreaRight" fmla="*/ 5742000 w 5791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64070" h="21600">
                <a:moveTo>
                  <a:pt x="0" y="0"/>
                </a:moveTo>
                <a:lnTo>
                  <a:pt x="164070" y="0"/>
                </a:lnTo>
                <a:lnTo>
                  <a:pt x="164070" y="21600"/>
                </a:lnTo>
                <a:lnTo>
                  <a:pt x="0" y="21600"/>
                </a:lnTo>
                <a:close/>
              </a:path>
              <a:path fill="lightenLess" w="164070" h="21600">
                <a:moveTo>
                  <a:pt x="0" y="0"/>
                </a:moveTo>
                <a:lnTo>
                  <a:pt x="164070" y="0"/>
                </a:lnTo>
                <a:lnTo>
                  <a:pt x="162670" y="1400"/>
                </a:lnTo>
                <a:lnTo>
                  <a:pt x="1400" y="1400"/>
                </a:lnTo>
                <a:close/>
              </a:path>
              <a:path fill="darken" w="164070" h="21600">
                <a:moveTo>
                  <a:pt x="164070" y="0"/>
                </a:moveTo>
                <a:lnTo>
                  <a:pt x="164070" y="21600"/>
                </a:lnTo>
                <a:lnTo>
                  <a:pt x="162670" y="20200"/>
                </a:lnTo>
                <a:lnTo>
                  <a:pt x="162670" y="1400"/>
                </a:lnTo>
                <a:close/>
              </a:path>
              <a:path fill="darkenLess" w="164070" h="21600">
                <a:moveTo>
                  <a:pt x="1640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2670" y="20200"/>
                </a:lnTo>
                <a:close/>
              </a:path>
              <a:path fill="lighten" w="1640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T Arts Toolk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763120" cy="563868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>
            <a:hlinkClick r:id="rId2"/>
          </p:cNvPr>
          <p:cNvSpPr/>
          <p:nvPr/>
        </p:nvSpPr>
        <p:spPr>
          <a:xfrm>
            <a:off x="2133720" y="6019920"/>
            <a:ext cx="5029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ket.org/artstoolkit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0" name="Action Button: Custom 7">
            <a:hlinkClick r:id="rId3"/>
          </p:cNvPr>
          <p:cNvSpPr/>
          <p:nvPr/>
        </p:nvSpPr>
        <p:spPr>
          <a:xfrm>
            <a:off x="2133720" y="6019920"/>
            <a:ext cx="5029200" cy="457200"/>
          </a:xfrm>
          <a:custGeom>
            <a:avLst/>
            <a:gdLst>
              <a:gd name="textAreaLeft" fmla="*/ 29520 w 5029200"/>
              <a:gd name="textAreaRight" fmla="*/ 4999680 w 5029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37430" h="21600">
                <a:moveTo>
                  <a:pt x="0" y="0"/>
                </a:moveTo>
                <a:lnTo>
                  <a:pt x="237430" y="0"/>
                </a:lnTo>
                <a:lnTo>
                  <a:pt x="237430" y="21600"/>
                </a:lnTo>
                <a:lnTo>
                  <a:pt x="0" y="21600"/>
                </a:lnTo>
                <a:close/>
              </a:path>
              <a:path fill="lightenLess" w="237430" h="21600">
                <a:moveTo>
                  <a:pt x="0" y="0"/>
                </a:moveTo>
                <a:lnTo>
                  <a:pt x="237430" y="0"/>
                </a:lnTo>
                <a:lnTo>
                  <a:pt x="236030" y="1400"/>
                </a:lnTo>
                <a:lnTo>
                  <a:pt x="1400" y="1400"/>
                </a:lnTo>
                <a:close/>
              </a:path>
              <a:path fill="darken" w="237430" h="21600">
                <a:moveTo>
                  <a:pt x="237430" y="0"/>
                </a:moveTo>
                <a:lnTo>
                  <a:pt x="237430" y="21600"/>
                </a:lnTo>
                <a:lnTo>
                  <a:pt x="236030" y="20200"/>
                </a:lnTo>
                <a:lnTo>
                  <a:pt x="236030" y="1400"/>
                </a:lnTo>
                <a:close/>
              </a:path>
              <a:path fill="darkenLess" w="237430" h="21600">
                <a:moveTo>
                  <a:pt x="237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30" y="20200"/>
                </a:lnTo>
                <a:close/>
              </a:path>
              <a:path fill="lighten" w="237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ithos Pro Regular"/>
              </a:rPr>
              <a:t>The Fan 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Documents and Settings\Larry.Moore\Local Settings\Temporary Internet Files\Content.IE5\EXBQZ8G4\MCj04125160000[1].wmf"/>
          <p:cNvPicPr/>
          <p:nvPr/>
        </p:nvPicPr>
        <p:blipFill>
          <a:blip r:embed="rId1"/>
          <a:stretch/>
        </p:blipFill>
        <p:spPr>
          <a:xfrm>
            <a:off x="5715000" y="2590920"/>
            <a:ext cx="3103560" cy="2438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Documents and Settings\Larry.Moore\Local Settings\Temporary Internet Files\Content.IE5\A26V54AA\MPj04307480000[1].jpg"/>
          <p:cNvPicPr/>
          <p:nvPr/>
        </p:nvPicPr>
        <p:blipFill>
          <a:blip r:embed="rId2"/>
          <a:stretch/>
        </p:blipFill>
        <p:spPr>
          <a:xfrm>
            <a:off x="685800" y="1371600"/>
            <a:ext cx="47610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28240" y="342900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The Newest Addition to the Toolki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ke the T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nce Samp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sic Samp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orld of Dance and Music CD-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coln: The Kentucky Y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3" descr="Lincoln.jpg"/>
          <p:cNvPicPr/>
          <p:nvPr/>
        </p:nvPicPr>
        <p:blipFill>
          <a:blip r:embed="rId1"/>
          <a:stretch/>
        </p:blipFill>
        <p:spPr>
          <a:xfrm>
            <a:off x="0" y="990720"/>
            <a:ext cx="7391520" cy="508320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1219320" y="609588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ttp://www.ket.org/lincoln/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391520" y="990720"/>
            <a:ext cx="17524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1" name="Picture 6" descr="lincoln-cartoon.gif"/>
          <p:cNvPicPr/>
          <p:nvPr/>
        </p:nvPicPr>
        <p:blipFill>
          <a:blip r:embed="rId2"/>
          <a:stretch/>
        </p:blipFill>
        <p:spPr>
          <a:xfrm>
            <a:off x="7543800" y="1447920"/>
            <a:ext cx="1565280" cy="2057400"/>
          </a:xfrm>
          <a:prstGeom prst="rect">
            <a:avLst/>
          </a:prstGeom>
          <a:ln w="0">
            <a:noFill/>
          </a:ln>
        </p:spPr>
      </p:pic>
      <p:sp>
        <p:nvSpPr>
          <p:cNvPr id="72" name="TextBox 8"/>
          <p:cNvSpPr/>
          <p:nvPr/>
        </p:nvSpPr>
        <p:spPr>
          <a:xfrm>
            <a:off x="7543800" y="3657600"/>
            <a:ext cx="137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</a:rPr>
              <a:t>Be sure and play th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</a:rPr>
              <a:t>Abe Across Ky. Game!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3" name="Action Button: Custom 8">
            <a:hlinkClick r:id="rId3"/>
          </p:cNvPr>
          <p:cNvSpPr/>
          <p:nvPr/>
        </p:nvSpPr>
        <p:spPr>
          <a:xfrm>
            <a:off x="1219320" y="6095880"/>
            <a:ext cx="6629400" cy="762120"/>
          </a:xfrm>
          <a:custGeom>
            <a:avLst/>
            <a:gdLst>
              <a:gd name="textAreaLeft" fmla="*/ 49320 w 6629400"/>
              <a:gd name="textAreaRight" fmla="*/ 6580080 w 6629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87812" h="21600">
                <a:moveTo>
                  <a:pt x="0" y="0"/>
                </a:moveTo>
                <a:lnTo>
                  <a:pt x="187812" y="0"/>
                </a:lnTo>
                <a:lnTo>
                  <a:pt x="187812" y="21600"/>
                </a:lnTo>
                <a:lnTo>
                  <a:pt x="0" y="21600"/>
                </a:lnTo>
                <a:close/>
              </a:path>
              <a:path fill="lightenLess" w="187812" h="21600">
                <a:moveTo>
                  <a:pt x="0" y="0"/>
                </a:moveTo>
                <a:lnTo>
                  <a:pt x="187812" y="0"/>
                </a:lnTo>
                <a:lnTo>
                  <a:pt x="186412" y="1400"/>
                </a:lnTo>
                <a:lnTo>
                  <a:pt x="1400" y="1400"/>
                </a:lnTo>
                <a:close/>
              </a:path>
              <a:path fill="darken" w="187812" h="21600">
                <a:moveTo>
                  <a:pt x="187812" y="0"/>
                </a:moveTo>
                <a:lnTo>
                  <a:pt x="187812" y="21600"/>
                </a:lnTo>
                <a:lnTo>
                  <a:pt x="186412" y="20200"/>
                </a:lnTo>
                <a:lnTo>
                  <a:pt x="186412" y="1400"/>
                </a:lnTo>
                <a:close/>
              </a:path>
              <a:path fill="darkenLess" w="187812" h="21600">
                <a:moveTo>
                  <a:pt x="187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6412" y="20200"/>
                </a:lnTo>
                <a:close/>
              </a:path>
              <a:path fill="lighten" w="187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86200" y="1980720"/>
            <a:ext cx="5105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914400" y="589284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www.ket.org/trips/belle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304920" y="76320"/>
            <a:ext cx="8458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askerville Old Face"/>
              </a:rPr>
              <a:t>Our Newest Electronic Field Trip!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Stou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7" name="Picture 10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739360" cy="1371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876312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44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elle of Louisville (October 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 Harrod and Fort Boonesbo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iation 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untain Hom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ryville Battle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ls of the O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mmoth C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EFT'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52280"/>
            <a:ext cx="7696440" cy="1798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76320" y="19810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Electronic Field Trips with Social Studies Themes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1143000" y="6319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ww.ket.org/trip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3" name="Action Button: Custom 10">
            <a:hlinkClick r:id="rId3"/>
          </p:cNvPr>
          <p:cNvSpPr/>
          <p:nvPr/>
        </p:nvSpPr>
        <p:spPr>
          <a:xfrm>
            <a:off x="2743200" y="6324480"/>
            <a:ext cx="3733920" cy="457200"/>
          </a:xfrm>
          <a:custGeom>
            <a:avLst/>
            <a:gdLst>
              <a:gd name="textAreaLeft" fmla="*/ 29520 w 3733920"/>
              <a:gd name="textAreaRight" fmla="*/ 3704400 w 3733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76284" h="21600">
                <a:moveTo>
                  <a:pt x="0" y="0"/>
                </a:moveTo>
                <a:lnTo>
                  <a:pt x="176284" y="0"/>
                </a:lnTo>
                <a:lnTo>
                  <a:pt x="176284" y="21600"/>
                </a:lnTo>
                <a:lnTo>
                  <a:pt x="0" y="21600"/>
                </a:lnTo>
                <a:close/>
              </a:path>
              <a:path fill="lightenLess" w="176284" h="21600">
                <a:moveTo>
                  <a:pt x="0" y="0"/>
                </a:moveTo>
                <a:lnTo>
                  <a:pt x="176284" y="0"/>
                </a:lnTo>
                <a:lnTo>
                  <a:pt x="174884" y="1400"/>
                </a:lnTo>
                <a:lnTo>
                  <a:pt x="1400" y="1400"/>
                </a:lnTo>
                <a:close/>
              </a:path>
              <a:path fill="darken" w="176284" h="21600">
                <a:moveTo>
                  <a:pt x="176284" y="0"/>
                </a:moveTo>
                <a:lnTo>
                  <a:pt x="176284" y="21600"/>
                </a:lnTo>
                <a:lnTo>
                  <a:pt x="174884" y="20200"/>
                </a:lnTo>
                <a:lnTo>
                  <a:pt x="174884" y="1400"/>
                </a:lnTo>
                <a:close/>
              </a:path>
              <a:path fill="darkenLess" w="176284" h="21600">
                <a:moveTo>
                  <a:pt x="1762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4884" y="20200"/>
                </a:lnTo>
                <a:close/>
              </a:path>
              <a:path fill="lighten" w="1762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763120" cy="533412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228600" y="115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KET’s New Quiz : Now in it’s 25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Year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7" name="Action Button: Custom 8"/>
          <p:cNvSpPr/>
          <p:nvPr/>
        </p:nvSpPr>
        <p:spPr>
          <a:xfrm>
            <a:off x="152280" y="990720"/>
            <a:ext cx="2057400" cy="1295280"/>
          </a:xfrm>
          <a:custGeom>
            <a:avLst/>
            <a:gdLst>
              <a:gd name="textAreaLeft" fmla="*/ 83880 w 2057400"/>
              <a:gd name="textAreaRight" fmla="*/ 1973520 w 205740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34306" h="21600">
                <a:moveTo>
                  <a:pt x="0" y="0"/>
                </a:moveTo>
                <a:lnTo>
                  <a:pt x="34306" y="0"/>
                </a:lnTo>
                <a:lnTo>
                  <a:pt x="34306" y="21600"/>
                </a:lnTo>
                <a:lnTo>
                  <a:pt x="0" y="21600"/>
                </a:lnTo>
                <a:close/>
              </a:path>
              <a:path fill="lightenLess" w="34306" h="21600">
                <a:moveTo>
                  <a:pt x="0" y="0"/>
                </a:moveTo>
                <a:lnTo>
                  <a:pt x="34306" y="0"/>
                </a:lnTo>
                <a:lnTo>
                  <a:pt x="32906" y="1400"/>
                </a:lnTo>
                <a:lnTo>
                  <a:pt x="1400" y="1400"/>
                </a:lnTo>
                <a:close/>
              </a:path>
              <a:path fill="darken" w="34306" h="21600">
                <a:moveTo>
                  <a:pt x="34306" y="0"/>
                </a:moveTo>
                <a:lnTo>
                  <a:pt x="34306" y="21600"/>
                </a:lnTo>
                <a:lnTo>
                  <a:pt x="32906" y="20200"/>
                </a:lnTo>
                <a:lnTo>
                  <a:pt x="32906" y="1400"/>
                </a:lnTo>
                <a:close/>
              </a:path>
              <a:path fill="darkenLess" w="34306" h="21600">
                <a:moveTo>
                  <a:pt x="343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06" y="20200"/>
                </a:lnTo>
                <a:close/>
              </a:path>
              <a:path fill="lighten" w="343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676520" y="6135840"/>
            <a:ext cx="611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ttp://www.ket.org/education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38:06Z</dcterms:created>
  <dc:creator>Missi Baker</dc:creator>
  <dc:description/>
  <dc:language>en-US</dc:language>
  <cp:lastModifiedBy>Larry.Moore</cp:lastModifiedBy>
  <dcterms:modified xsi:type="dcterms:W3CDTF">2009-09-22T16:45:18Z</dcterms:modified>
  <cp:revision>257</cp:revision>
  <dc:subject/>
  <dc:title>Slide 1</dc:title>
</cp:coreProperties>
</file>